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A74-AEB4-457C-B7D5-88D55F4CF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F1E-F67D-469C-82FB-B186DC846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C466-281B-4BBA-A64C-B38D6E643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9CA-61D1-485E-97E2-8C3978D5A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A07-B811-4CF6-B5A9-D4F6EFDAC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6E1B-2D73-4911-88CE-9D42C5C81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F7D-83F2-4620-B71C-654531E2B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F12-0875-46A8-9B58-1FA8A46EA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146-AB7C-4745-8138-5B11ABF74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4A3-D964-409A-A4B3-273ED7560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212-342A-4FCC-8C16-780B67969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268-2B79-4C7A-B353-9EF8B3940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E04-DB20-45C4-B255-9F559C157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C36A-E795-42BD-AEFA-39CE5714A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3730-B770-4A0C-B986-52A6DAB98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C24-C2F0-4BBA-BC10-CCDF5F936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D1C8-E4CD-4474-96B5-50E9C3060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791F-0F2D-44B8-910D-D6E5DCDFE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C4CE-96B5-4C4F-BBE8-D803F810D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AB6-4C06-4EED-B2D1-B75F22281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CBC3-9AC3-448D-B60D-CDADC02F6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27A-6A4C-4C04-8352-3ACD5DB8A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AA5-CA9E-4EA6-ADA6-74383FB83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9807-5378-4BEC-ACD7-94997DA16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77B-0264-486E-818A-D5F2CFF51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5718-6EBA-4F0D-BB9C-76496E140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265-2D2F-4749-9B9B-D51590F7A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BED-DC95-4EA4-846A-19E8BFCFF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3ECF-4118-44D6-A5A6-09811EBB7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B47-76CC-4E5C-82DE-16E09361F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58F-CD53-4060-9093-9512A3B24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843-CDF6-4540-9FD8-57A44EDEB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B77-E3D8-46BC-B9C7-480841EB4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A70E-1E8F-4C04-B79D-454FF2540D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4A1-8B21-41FC-9FF2-65BAFA39E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AA8-A11E-41B6-BEDC-5242FC3E4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7FA-59EB-4462-9106-D31C659C3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3C7-E275-4C98-8242-38E69BF8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11D-381A-42AD-8AC5-B1E1B6A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642-8FB4-4786-B996-490DFEBE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A2B0-95FF-4885-8C1E-D60DF2F8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35B-9B99-4345-9661-12D457B3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1D9-64B9-4982-8D2B-99F2881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DDB-E011-41CC-8DD8-A450F3B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6C0-3D7C-4D55-9FB6-6AE062B1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D1C0-5F6D-49E6-98F8-3D5A5DE8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2F11-E060-436A-B073-654FEAD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B3BF-1D44-4076-B398-038ADE0A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6E6-7A16-4B4B-9B4A-36CC2D0A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20F-90F5-44C9-AB4D-CE2438C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382E-1114-40D3-A6DB-3AB704B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557-B9D7-4EE0-A085-C308CEB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E1A2-E41F-4296-BB89-9788088C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CD12-0C6F-4189-919E-89363EB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EEBA-17D4-415E-A5F7-9E4127E7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6BF2-4E21-49F5-A3EF-BE6F7418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C34C-4B6E-4496-8FE2-FECBC4D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7C12-FBF6-4713-984C-9258C82B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684B-9DBB-4D5F-96FC-00EE9A0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865-EAD1-48D9-9D69-76DE2A5A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F288-CD6F-4DBA-ABC3-D5541D64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875E-EE4F-4854-B4A6-771FAF6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0C37-5C0D-4ADD-8E2A-2F1F5FD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AB19-145C-45FE-935A-B4A9FAE0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1F7E-48AF-4985-BD70-035E3728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5F46-8FCF-4E92-B50A-F20AB4C9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7330-174D-4F07-A879-2DA27DF1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DD5-4F9B-4E79-9F4F-D9A1DEB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054-95AF-4B51-88E4-7305E5F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1FC-32CE-4F38-B601-C9A1971C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4E1-FD8A-40FA-99E4-F6A21E5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E71-420B-41DF-8314-EB9F3B8E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8EB-5EAC-4F58-996C-3B6D363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6D58-1A78-4FF0-A5AB-86D48851CB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9DA-36F1-4EFA-9A85-1EC0E4CEB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C2F-EDAC-4833-82C1-62CAB56B713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2915280" y="206064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Критическая прове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651640" y="27813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Нестрог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1548720" y="278136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Строг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437200" y="364500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эмпирическая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49480" y="3645000"/>
            <a:ext cx="204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рациональное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6921000" y="3645000"/>
            <a:ext cx="16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включение в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тради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640400" y="3645000"/>
            <a:ext cx="16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критическая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интерпрета-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468360" y="5157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38560" y="515772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Естествозн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5866920" y="515772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Гуманитарные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H="1">
            <a:off x="2195280" y="2421000"/>
            <a:ext cx="2089080" cy="431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4284720" y="2421000"/>
            <a:ext cx="1942920" cy="431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6"/>
          <p:cNvSpPr/>
          <p:nvPr/>
        </p:nvSpPr>
        <p:spPr>
          <a:xfrm flipH="1">
            <a:off x="1258920" y="3213000"/>
            <a:ext cx="936720" cy="43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2195640" y="3213000"/>
            <a:ext cx="93636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5364000" y="3141720"/>
            <a:ext cx="93672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6300720" y="3141720"/>
            <a:ext cx="1079640" cy="57456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5651640" y="4653000"/>
            <a:ext cx="108108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6732720" y="4508640"/>
            <a:ext cx="1008000" cy="649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1258920" y="4365720"/>
            <a:ext cx="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348000" y="4365720"/>
            <a:ext cx="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ритическая установк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предрасположенность мышления к проверке существующих взглядов, концепций и теорий с целью выяснения их несоответствия принимаемым фактам, нормам или ценност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24000" y="2133720"/>
            <a:ext cx="8424720" cy="32400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62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3100" spc="-1" strike="noStrike">
                <a:solidFill>
                  <a:srgbClr val="660000"/>
                </a:solidFill>
                <a:latin typeface="Georgia"/>
              </a:rPr>
              <a:t>Критическая установка демонстрирует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62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фактическую ложн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логическую необоснованн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неприемлем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с точки зрения нормативных или ценностных представле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611280" y="2637000"/>
            <a:ext cx="7993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Догматическая установка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предрасположенность к принятию некоторых фактов, теоретических положений, норм или ценностей (в данной формулировке) как раз и навсегда установленных и не подлежащих пересмот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539640" y="2565360"/>
            <a:ext cx="8136000" cy="22320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826920" y="2133720"/>
            <a:ext cx="77043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 indent="-7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Объективность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результат применения к знаниям критической установ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Цель науки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в целом – объективное постижение космоса, включая и человека, создание картины мира, независимой от внутреннего мира отдельных человеческих су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900000" y="3573360"/>
            <a:ext cx="7559640" cy="244800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1"/>
          <p:cNvSpPr/>
          <p:nvPr/>
        </p:nvSpPr>
        <p:spPr>
          <a:xfrm>
            <a:off x="539640" y="2276640"/>
            <a:ext cx="8207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занимается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бщи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проверяем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бласть науки: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бстрактные объе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мпирические факты.</a:t>
            </a:r>
            <a:r>
              <a:rPr b="0" lang="ru-RU" sz="1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Абстрактный объект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свойства или отношения предметов, рассматриваемые в отвлечении от самих этих предм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Абстрактные объекты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- основа для формулировки универсальных законов и теоретических сист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материальная точка в ньютоновской механике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абсолютно черное тело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гениальн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395280" y="1989000"/>
            <a:ext cx="8353440" cy="107964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8642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Эмпирические факты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высказывания, основанные на чувственном восприя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истема эмпирических фактов образует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опыт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8642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у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абстрактные структуры, в рамках которых возможно рациональное доказатель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пыт, при помощи которого производится эмпирическая провер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425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бъективность науки – самоограни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не занимается знаниями, которые не могут быть выражены в виде общих абстрактных структур или структур, основанных на опы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79280" y="3357720"/>
            <a:ext cx="864072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56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Дилемма сциентизма и антисциентизма в современной философ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642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Непосредственные цели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пис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ъяснение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предсказа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писание, объяснение и предсказание возможно и в ненаучных видах деятельности (пример – мифолог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Научное описание, объяснение и предсказание строятся на основе 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законов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2565000"/>
            <a:ext cx="8642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Закон науки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универсальное высказывание, доступное рациональному доказательству или эмпирической провер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5280" y="2492280"/>
            <a:ext cx="8280360" cy="23050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Логическая форма зако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Symbol"/>
                <a:ea typeface="Symbol"/>
              </a:rPr>
              <a:t>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х (Р(х) </a:t>
            </a:r>
            <a:r>
              <a:rPr b="0" i="1" lang="ru-RU" sz="2400" spc="-1" strike="noStrike">
                <a:solidFill>
                  <a:srgbClr val="660000"/>
                </a:solidFill>
                <a:latin typeface="Symbol"/>
                <a:ea typeface="Symbol"/>
              </a:rPr>
              <a:t>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 Q(х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Все металлы при нагревании расширя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переменная, пробегающая по металл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Р 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– свойство «быть нагретым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свойство «расширятьс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0920" y="270792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Ценности нау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21000" indent="-3650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Истин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21000" indent="-3650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овиз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Наука как социальный институт.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циальный институ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стойчивая структура деятельности, направленная на организацию достижения целей, общих для больших групп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убъектом науки является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научное сообщество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ое сообщество организует критическую провер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684360" y="5229360"/>
            <a:ext cx="7848360" cy="86364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755640" y="1989000"/>
            <a:ext cx="7848720" cy="158436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Главные социальные институ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Georgia"/>
              </a:rPr>
              <a:t>Научные организации</a:t>
            </a: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  как способ упорядочения деятельности научного сообществ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Georgia"/>
              </a:rPr>
              <a:t>Научные публикации</a:t>
            </a: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 как способ информирования научного сообщества о результатах и оценки этих результа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ая деятельность регулиру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правом (в том числе авторским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экономикой наук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этикой нау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36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оциология науки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изучение форм организации научно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395280" y="1989000"/>
            <a:ext cx="82803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оберт Мертон - императивы научного это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Универсал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ученому формулировать высказывания, истинность которых не зависит от конкретных условий его создания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Коллектив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ученому незамедлительно передавать свои результаты в пользование научному сообще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Бескорыстие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строить свою деятельность как будто кроме постижения истины у него нет никаких других интере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Организованный скептиц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требует объективного анализа любого научного высказывания и его критической провер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395280" y="1989000"/>
            <a:ext cx="8280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сновные характеристики науки как професс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ладание ученым специальными знаниями, за хранение, передачу и расширение которых ответственно научное сообщество. Ученый как экспер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Автономность научного сообщества в привлечении новых членов, их подготовке и  контроле их профессионального пове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Наличие внутри профессии форм вознаграждения, образующих достаточные стимулы для профессиональной карь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Заинтересованность социального окружения профессии в продукте деятельности ее членов, гарантирующая как существование, так и воспроизводство профе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"/>
          <p:cNvSpPr/>
          <p:nvPr/>
        </p:nvSpPr>
        <p:spPr>
          <a:xfrm>
            <a:off x="395280" y="1989000"/>
            <a:ext cx="8280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Массив публикаций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вся совокупность публикации в печатных и электронных изданиях по актуальным для данной научной дисциплине проблемам, доступные дисциплинарному сообще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Виды публика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зо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нографии индивидуальные и коллективн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Учеб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39640" y="1989000"/>
            <a:ext cx="799308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Микешина Л.А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. – М.: Прогресс-Традиция, 2005. - С. 167-1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арсонс Т., Сторер Н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Научная дисциплина и дифференциация науки // Научная деятельность: структура и институты / под ред. Э.М. Мирского и Б.Г. Юдина. - М.: Прогресс, 1980. – С. 27-5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ппер К.Р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Объективное знание. Эволюционный подход /отв. ред. В.Н. Садовский. – М.: Эдиториал УРСС, 2002. Гл. 5. Цель науки. – С. 185-1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. Общие проблемы: учебник для аспирантов и соискателей ученой степени кандидата наук. – М.: Гардарики, 2006. Гл, 2. С. 91-155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Структура и развитие науки. Из Бостонских исследований по философии науки / Под ред. Б.С. Грязнова и В.Н. Садовского. - М.: Прогресс, 197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науки /под ред. С.А. Лебедева. Учебное пособие для вузов. – М.: Академический проспект, 2005. – С.  7-32, 303-385, 685-72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Этос науки. М.: </a:t>
            </a:r>
            <a:r>
              <a:rPr b="0" lang="en-US" sz="1800" spc="-1" strike="noStrike">
                <a:solidFill>
                  <a:srgbClr val="660000"/>
                </a:solidFill>
                <a:latin typeface="Georgia"/>
              </a:rPr>
              <a:t>Academia, 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395280" y="234936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оциальный институт (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XVII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век  - начало 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XVIII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 века) - в Европе организованы первые научные общества и академии и началось издание научных журналов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395280" y="242100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 рубеже XIX-XХ  веков возникает новый способ организации науки – крупные научные институты и лаборатории с мощной экспериментальной баз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пособ организации научного труда приближается к формам организации современного индустриального тру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395280" y="2421000"/>
            <a:ext cx="8280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– основа могущества государства и объект полит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Цикл: "Наука – техника – производство"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60-70 годы ХХ века – научно-техническая револю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чало XXI века – информационная научная револю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9"/>
          <p:cNvSpPr/>
          <p:nvPr/>
        </p:nvSpPr>
        <p:spPr>
          <a:xfrm>
            <a:off x="468360" y="836640"/>
            <a:ext cx="795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000" spc="-1" strike="noStrike">
                <a:solidFill>
                  <a:srgbClr val="660000"/>
                </a:solidFill>
                <a:latin typeface="Georgia"/>
              </a:rPr>
              <a:t> Наука и философия. Дилемма сциентизма и антисциентизма в современной философии</a:t>
            </a:r>
            <a:r>
              <a:rPr b="1" lang="en-US" sz="2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84360" y="2276640"/>
            <a:ext cx="77752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аука дает философии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ые знания, которые используются для построения мировоззр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деал объективного зн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модель системного зн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95280" y="206064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Философия дает науке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нятие цели научной деятельности, места науки в структуре ми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учение о методах научного позна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знавательные ориентиры - в каком направлении осуществлять научный поис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539640" y="2492280"/>
            <a:ext cx="828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циентизм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(scientia – знание, наука) – философская установка, согласно которой научное знание является наивысшей культурной ценностью и достаточным условием для ориентации человека в м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468360" y="2276640"/>
            <a:ext cx="8280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Антисциентизм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концепция, согласно которой наука не имеет отношения к достижению существенных целей человеческой жизни или враждебна 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граниченность возможностей нау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есовместимость объективности и человеческого 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Наука как познавательная деятельность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6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Деятельность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процесс целесообразного преобразования объ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Субъект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деятельности – лицо, осуществляющее преобразование объ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Объект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деятельности – предмет реальности или представление субъекта о 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Деятель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цел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средств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187280" y="2133720"/>
            <a:ext cx="6624720" cy="79056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468360" y="2133720"/>
            <a:ext cx="83534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Практическая деятельность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преобразование объекта, результат которого удовлетворяет потребность 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обычная жи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84360" y="2133720"/>
            <a:ext cx="792000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99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знани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деятельность по созданию и преобразованию идеальных представлений предмета, вовлеченного в практическую деяте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деальные представления, связанные с языковыми или перцептивными структурами –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знани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55640" y="2060640"/>
            <a:ext cx="7920000" cy="201600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278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74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аук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 познавательная деятельность, состоящая в  порождении, систематизации и обосновании новых объективных знаний о реа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714240" y="2571840"/>
            <a:ext cx="7848720" cy="24462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нали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знавательная деятельн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деятельность с идеальными объект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Реальн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бъективная и субъек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Объективное знани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тличительный признак нау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00"/>
                </a:solidFill>
                <a:latin typeface="Georgia"/>
              </a:rPr>
              <a:t>Объективное знание</a:t>
            </a: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знание, допускающее критическую проверк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Bryush</cp:lastModifiedBy>
  <dcterms:modified xsi:type="dcterms:W3CDTF">2009-02-19T09:08:27Z</dcterms:modified>
  <cp:revision>22</cp:revision>
  <dc:subject/>
  <dc:title>Слайд 1</dc:title>
</cp:coreProperties>
</file>